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C6A1-F691-401C-9A0D-DEA90403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CE57-7778-4A16-BEB5-615646D3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1B29-AEC2-4168-80FD-34785512C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FD00-4AB5-4623-A37E-3251F601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C49B-68B2-498A-93D2-5B50655D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B40A-1367-47E1-8B21-0E804375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26ED-2C93-4EF8-8957-D4AD3090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7420-AB14-4DA6-A10B-F0BBF0F2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0A9F-73F5-4772-94A1-287C67E5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739B-B6E4-4E6D-903B-16B58517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9183-4C90-4CBF-8BAD-EEAC65DB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B10C-356A-4E66-9CDF-CC358EED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A628-C522-45BB-A382-51CF6B5F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FEC3-9966-4B46-98BF-A7A8E354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F6DE-06FE-474A-BAF0-4C6D39BB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8A4A-EC98-4F09-9723-D91D654D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CB50-7D25-48B4-B685-D359D398F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6F87D-E3A4-499E-97D3-B2DBDC5C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4EC05-06BD-4E04-8BEB-4E60DCE0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6B04E-88B7-4BE7-A64D-F8DC34D2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0AF9B-A807-4314-BCE0-4D41B012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6E10D-B750-4DE5-8137-03B6BDC7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C3DB-396F-429E-809A-E5485BFC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B560D-F2F9-40E8-B5FE-BB3345A4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7A160-A5E8-48E2-A84B-ECB7C84D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0869A-E8B8-4E25-82E0-E040E479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D430C-C10C-4936-930A-2C02050F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B5F0E-2FBF-407C-8B8D-4C8264D5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5F722-6DB6-4545-AFFA-F2A9353C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90216-3078-4521-AF6C-CAB764BC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DCDD9-E687-4BFC-AF67-D566EA9BC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4BC1E-36CE-42E0-9CBB-6B3796A9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A7974-E93C-4CB2-9C32-F8BFC501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70AD-BB2F-407B-AD8F-368F87A9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CDD02-52ED-459D-B78E-514DD49E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19D8A-EE59-4223-9440-5EDA4441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6478A-068E-49FE-AC2E-BB6AB434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8DC1B-6FB9-4DBD-97B3-2EA90425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B936A-1561-41B8-84F0-749F7590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F5349-6C0F-45E2-89DB-F9C45D2F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E07BD-A96C-4FFE-BA4F-A0818AF3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B80CE-15AC-48C2-ACAF-20E76D0F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631CE-26D3-4AD4-A530-3E390B24D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36F39-07C1-4390-BE19-6E86444B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6E04-F06B-4D0D-8F28-C6D210F3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2B1BB-0444-4616-ADB5-BF430A94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D3B3B-5288-4E3E-A783-DCAAAEEE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337F5-25FD-4A40-B322-82F13890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F6D81-0B2A-4F17-857F-291CCB38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9DDAA-21AF-4B12-ADEE-67AF20DF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FAF73-3BB1-4C2D-B211-E27D7234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E9379-1E85-414E-8334-812BD0F0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5A2C1-DBD0-48AC-952F-F5D88CA0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0DA09-C3F1-4B63-9C7D-B6BFF1FB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29962-5519-48C0-A671-AE289FD44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1770-28EA-46A0-9FC6-CFFC51AF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55D45-D5CF-4BCA-B5A6-1F70B917F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2FBBE-0506-4B58-BB0E-83ED0696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17EB3-EC00-459F-B359-7D5BED38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E2B00-3194-4BFE-AE88-72403132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AF031-17D7-4E10-84BB-7EDAC170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BA6EC-3085-4F4F-9C72-9B346865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00424-4534-4FB3-8D13-62DB4695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A76C1-F03B-4D59-A38C-65A6E79B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6FCFD-2B12-4EBD-8CF5-732864D5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AE476-A6F3-49C8-980E-C49CE3B0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D971-32BE-492F-861D-C486C2D3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BF16D-517A-4DAC-A817-B5EDEA0C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D4EE6-926D-4C4E-934B-68A7A625A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45CAD-E806-42C6-A0CB-DCB65CC8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9FDDC-40DD-4F83-8BCF-ED83A885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4D9BC-6E40-4875-88EC-33F91E45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674D5-5D1E-49C1-A45B-4EB772D3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AECC7-C518-4801-B86C-B0DA2FFE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4667D-FB24-4C1A-9708-E05D4558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E5575-28DE-4575-9146-265F17A6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FBE8D-6C1C-4C16-A50D-EBA33396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8EA1-A3DD-4187-A572-F379F685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CC949-1BD5-41A9-9403-5A11965A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B7DCF-DC7F-466C-ACE2-80EE70F1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4C912-B9AB-4B61-BBD3-B762358B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1966A-ECAA-4D99-94B1-114B46134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F6E00-5CD6-461D-9430-B450908B8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33A0-4102-4E6D-9B8C-214A05DB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D399-FB73-46D5-BB36-764697206EC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9B8A-7131-4725-8712-57D23A940DB4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6BE1-CCBD-4CB9-B5AF-D705227B79D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84AF-6334-47FA-934E-B6FDB98FFC0C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DFFE-ABC3-49C6-A3DA-AEB46852912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19ED-1AD4-4B81-97C0-A4EC69B91B7C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29D9-7F89-4C18-A74D-5D830EF1CAE5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378000" y="768240"/>
            <a:ext cx="9021600" cy="1451160"/>
          </a:xfrm>
          <a:prstGeom prst="rect">
            <a:avLst/>
          </a:prstGeom>
          <a:ln w="0">
            <a:noFill/>
          </a:ln>
        </p:spPr>
      </p:pic>
      <p:pic>
        <p:nvPicPr>
          <p:cNvPr id="302" name="Subtitle 2" descr=""/>
          <p:cNvPicPr/>
          <p:nvPr/>
        </p:nvPicPr>
        <p:blipFill>
          <a:blip r:embed="rId2"/>
          <a:stretch/>
        </p:blipFill>
        <p:spPr>
          <a:xfrm>
            <a:off x="225360" y="2243160"/>
            <a:ext cx="876636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3"/>
          <p:cNvSpPr/>
          <p:nvPr/>
        </p:nvSpPr>
        <p:spPr>
          <a:xfrm>
            <a:off x="533520" y="533520"/>
            <a:ext cx="8153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Arial"/>
              </a:rPr>
              <a:t>CARA- CARA  PENULARAN KUSTA  SAMPAI SAAT INI MASIH BERSIFAT MISTERIUS,YANG DIKETAHUI HANYA PINTU KELUAR KUMAN KUSTA DARI TUBUH SI PENDERITA YAKNI SELAPUT LENDIR HIDU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Arial"/>
              </a:rPr>
              <a:t>MATA RANTAI PENULARAN MASIH MRP TEKA- TEKI YANG MASIH BELUM DAPAT DIPECAHK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Arial"/>
              </a:rPr>
              <a:t>BERDASARKAN PENGAMATAN YANG DILAKUKAN REES TH 1975 BAHWA PENULARAN DAN PERKEMBANGAN PENYAKIT KUSTA TERGANTUNG 2 HAL YAIT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d-ID" sz="1800" spc="-1" strike="noStrike">
                <a:solidFill>
                  <a:srgbClr val="ffffff"/>
                </a:solidFill>
                <a:latin typeface="Arial"/>
              </a:rPr>
              <a:t>- JUMLAH DAN KEGANASAN MYCOBACTERIUM LEPRA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d-ID" sz="1800" spc="-1" strike="noStrike">
                <a:solidFill>
                  <a:srgbClr val="ffffff"/>
                </a:solidFill>
                <a:latin typeface="Arial"/>
              </a:rPr>
              <a:t>- DAYA TAHAN TUBUH PENDERI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Arial"/>
              </a:rPr>
              <a:t>DISAMPING ITU HAL –HAL YANG BERPERAN ADALA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d-ID" sz="1800" spc="-1" strike="noStrike">
                <a:solidFill>
                  <a:srgbClr val="ffffff"/>
                </a:solidFill>
                <a:latin typeface="Arial"/>
              </a:rPr>
              <a:t>- US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d-ID" sz="1800" spc="-1" strike="noStrike">
                <a:solidFill>
                  <a:srgbClr val="ffffff"/>
                </a:solidFill>
                <a:latin typeface="Arial"/>
              </a:rPr>
              <a:t>- JENIS KELAM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d-ID" sz="1800" spc="-1" strike="noStrike">
                <a:solidFill>
                  <a:srgbClr val="ffffff"/>
                </a:solidFill>
                <a:latin typeface="Arial"/>
              </a:rPr>
              <a:t>- R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d-ID" sz="1800" spc="-1" strike="noStrike">
                <a:solidFill>
                  <a:srgbClr val="ffffff"/>
                </a:solidFill>
                <a:latin typeface="Arial"/>
              </a:rPr>
              <a:t>- KEADAAN SOSIAL EKONOM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d-ID" sz="1800" spc="-1" strike="noStrike">
                <a:solidFill>
                  <a:srgbClr val="ffffff"/>
                </a:solidFill>
                <a:latin typeface="Arial"/>
              </a:rPr>
              <a:t>- LINGKUNG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Arial"/>
              </a:rPr>
              <a:t>MASA  INKUBASI 2- 5 TAHUN DAN BISA PULUHAN TAHU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3"/>
          <p:cNvSpPr/>
          <p:nvPr/>
        </p:nvSpPr>
        <p:spPr>
          <a:xfrm>
            <a:off x="457200" y="609480"/>
            <a:ext cx="807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 u="sng">
                <a:solidFill>
                  <a:srgbClr val="ffffff"/>
                </a:solidFill>
                <a:uFillTx/>
                <a:latin typeface="Arial"/>
              </a:rPr>
              <a:t>SEJARAH RUMAH SAKIT SITANA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 u="sng">
                <a:solidFill>
                  <a:srgbClr val="ffffff"/>
                </a:solidFill>
                <a:uFillTx/>
                <a:latin typeface="Arial"/>
              </a:rPr>
              <a:t>PEMINDAHAN DARI RUMAH SAKIT KUSTA “ LENTENG AGUNG” ( VAN der HEYDE 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 u="sng">
                <a:solidFill>
                  <a:srgbClr val="ffffff"/>
                </a:solidFill>
                <a:uFillTx/>
                <a:latin typeface="Arial"/>
              </a:rPr>
              <a:t>LUAS : 54 H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 u="sng">
                <a:solidFill>
                  <a:srgbClr val="ffffff"/>
                </a:solidFill>
                <a:uFillTx/>
                <a:latin typeface="Arial"/>
              </a:rPr>
              <a:t>TH. 1951 DIDIRIKAN OLEH DEPKES RI DG NAMA “ LEPROSARIUM “ SEW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 u="sng">
                <a:solidFill>
                  <a:srgbClr val="ffffff"/>
                </a:solidFill>
                <a:uFillTx/>
                <a:latin typeface="Arial"/>
              </a:rPr>
              <a:t>3 MARET 1956 DIRESMIKAN OLEH DR.M.HAT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 u="sng">
                <a:solidFill>
                  <a:srgbClr val="ffffff"/>
                </a:solidFill>
                <a:uFillTx/>
                <a:latin typeface="Arial"/>
              </a:rPr>
              <a:t>TH 1962 LEPROSARIUM SEWAN --- PUSAT REHABILITASI SITANA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 u="sng">
                <a:solidFill>
                  <a:srgbClr val="ffffff"/>
                </a:solidFill>
                <a:uFillTx/>
                <a:latin typeface="Arial"/>
              </a:rPr>
              <a:t>SK.MENKES RI NO.140/ MENKES / SK / IV / 1978 / ---- RUMAH SAKIT KUSTA  SITANALA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27" name=""/>
          <p:cNvGrpSpPr/>
          <p:nvPr/>
        </p:nvGrpSpPr>
        <p:grpSpPr>
          <a:xfrm>
            <a:off x="1295280" y="2057400"/>
            <a:ext cx="6553080" cy="2590920"/>
            <a:chOff x="1295280" y="2057400"/>
            <a:chExt cx="6553080" cy="2590920"/>
          </a:xfrm>
        </p:grpSpPr>
        <p:sp>
          <p:nvSpPr>
            <p:cNvPr id="328" name=""/>
            <p:cNvSpPr/>
            <p:nvPr/>
          </p:nvSpPr>
          <p:spPr>
            <a:xfrm>
              <a:off x="1295280" y="2057400"/>
              <a:ext cx="6553080" cy="2590920"/>
            </a:xfrm>
            <a:prstGeom prst="rect">
              <a:avLst/>
            </a:prstGeom>
            <a:solidFill>
              <a:srgbClr val="ffff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95280" y="2133720"/>
              <a:ext cx="6553080" cy="2438280"/>
            </a:xfrm>
            <a:prstGeom prst="ellipse">
              <a:avLst/>
            </a:prstGeom>
            <a:solidFill>
              <a:srgbClr val="ff388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1752480" y="2743200"/>
              <a:ext cx="5510160" cy="1219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Rockwell Extra Bold"/>
                </a:rPr>
                <a:t>TERIMA KASIH</a:t>
              </a:r>
              <a:endPara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Rockwell Extra Bold"/>
                <a:ea typeface="Rockwell Extra Bold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231840" y="1901880"/>
            <a:ext cx="8461440" cy="4962600"/>
          </a:xfrm>
          <a:prstGeom prst="rect">
            <a:avLst/>
          </a:prstGeom>
          <a:ln w="0">
            <a:noFill/>
          </a:ln>
        </p:spPr>
      </p:pic>
      <p:sp>
        <p:nvSpPr>
          <p:cNvPr id="304" name="Notched Right Arrow 4"/>
          <p:cNvSpPr/>
          <p:nvPr/>
        </p:nvSpPr>
        <p:spPr>
          <a:xfrm flipV="1">
            <a:off x="2057400" y="2286000"/>
            <a:ext cx="1066680" cy="380880"/>
          </a:xfrm>
          <a:custGeom>
            <a:avLst/>
            <a:gdLst>
              <a:gd name="textAreaLeft" fmla="*/ 95040 w 1066680"/>
              <a:gd name="textAreaRight" fmla="*/ 97164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743" y="5400"/>
                </a:ln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17743" y="16200"/>
                </a:lnTo>
                <a:lnTo>
                  <a:pt x="0" y="16200"/>
                </a:lnTo>
                <a:lnTo>
                  <a:pt x="192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Notched Right Arrow 17"/>
          <p:cNvSpPr/>
          <p:nvPr/>
        </p:nvSpPr>
        <p:spPr>
          <a:xfrm flipV="1">
            <a:off x="1981080" y="6248520"/>
            <a:ext cx="1067040" cy="380880"/>
          </a:xfrm>
          <a:custGeom>
            <a:avLst/>
            <a:gdLst>
              <a:gd name="textAreaLeft" fmla="*/ 95040 w 1067040"/>
              <a:gd name="textAreaRight" fmla="*/ 972000 w 10670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743" y="5400"/>
                </a:ln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17743" y="16200"/>
                </a:lnTo>
                <a:lnTo>
                  <a:pt x="0" y="16200"/>
                </a:lnTo>
                <a:lnTo>
                  <a:pt x="192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Title 1" descr=""/>
          <p:cNvPicPr/>
          <p:nvPr/>
        </p:nvPicPr>
        <p:blipFill>
          <a:blip r:embed="rId2"/>
          <a:stretch/>
        </p:blipFill>
        <p:spPr>
          <a:xfrm>
            <a:off x="450720" y="262080"/>
            <a:ext cx="824256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Box 33"/>
          <p:cNvSpPr/>
          <p:nvPr/>
        </p:nvSpPr>
        <p:spPr>
          <a:xfrm>
            <a:off x="3352680" y="35812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Group 13"/>
          <p:cNvGrpSpPr/>
          <p:nvPr/>
        </p:nvGrpSpPr>
        <p:grpSpPr>
          <a:xfrm>
            <a:off x="228600" y="990720"/>
            <a:ext cx="7620120" cy="6081840"/>
            <a:chOff x="228600" y="990720"/>
            <a:chExt cx="7620120" cy="6081840"/>
          </a:xfrm>
        </p:grpSpPr>
        <p:sp>
          <p:nvSpPr>
            <p:cNvPr id="311" name="Right Arrow 9"/>
            <p:cNvSpPr/>
            <p:nvPr/>
          </p:nvSpPr>
          <p:spPr>
            <a:xfrm>
              <a:off x="1917720" y="1015200"/>
              <a:ext cx="1206360" cy="813600"/>
            </a:xfrm>
            <a:prstGeom prst="rightArrow">
              <a:avLst>
                <a:gd name="adj1" fmla="val 50000"/>
                <a:gd name="adj2" fmla="val 39869"/>
              </a:avLst>
            </a:prstGeom>
            <a:solidFill>
              <a:srgbClr val="ff388c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TextBox 18"/>
            <p:cNvSpPr/>
            <p:nvPr/>
          </p:nvSpPr>
          <p:spPr>
            <a:xfrm>
              <a:off x="228600" y="1116000"/>
              <a:ext cx="1528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3000" spc="-1" strike="noStrike">
                  <a:solidFill>
                    <a:srgbClr val="ffffff"/>
                  </a:solidFill>
                  <a:latin typeface="Century Gothic"/>
                </a:rPr>
                <a:t>KUSTA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TextBox 32"/>
            <p:cNvSpPr/>
            <p:nvPr/>
          </p:nvSpPr>
          <p:spPr>
            <a:xfrm>
              <a:off x="3505320" y="990720"/>
              <a:ext cx="4114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entury Gothic"/>
                </a:rPr>
                <a:t>    </a:t>
              </a:r>
              <a:r>
                <a:rPr b="0" lang="en-US" sz="4800" spc="-1" strike="noStrike">
                  <a:solidFill>
                    <a:srgbClr val="ffffff"/>
                  </a:solidFill>
                  <a:latin typeface="Century Gothic"/>
                </a:rPr>
                <a:t>Tidak</a:t>
              </a:r>
              <a:r>
                <a:rPr b="0" lang="en-US" sz="2800" spc="-1" strike="noStrike">
                  <a:solidFill>
                    <a:srgbClr val="ffffff"/>
                  </a:solidFill>
                  <a:latin typeface="Century Gothic"/>
                </a:rPr>
                <a:t>  </a:t>
              </a:r>
              <a:r>
                <a:rPr b="0" lang="en-US" sz="4400" spc="-1" strike="noStrike">
                  <a:solidFill>
                    <a:srgbClr val="ffffff"/>
                  </a:solidFill>
                  <a:latin typeface="Century Gothic"/>
                </a:rPr>
                <a:t>Cacat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TextBox 34"/>
            <p:cNvSpPr/>
            <p:nvPr/>
          </p:nvSpPr>
          <p:spPr>
            <a:xfrm>
              <a:off x="2819520" y="2286000"/>
              <a:ext cx="5029200" cy="47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2800" spc="-1" strike="noStrike">
                  <a:solidFill>
                    <a:srgbClr val="ffffff"/>
                  </a:solidFill>
                  <a:latin typeface="Century Gothic"/>
                </a:rPr>
                <a:t>-DITEMUKAN DINI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2800" spc="-1" strike="noStrike">
                  <a:solidFill>
                    <a:srgbClr val="ffffff"/>
                  </a:solidFill>
                  <a:latin typeface="Century Gothic"/>
                </a:rPr>
                <a:t>-DIOBATI DINI DAN  DIOBATI </a:t>
              </a:r>
              <a:r>
                <a:rPr b="0" lang="en-US" sz="28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entury Gothic"/>
                </a:rPr>
                <a:t>  </a:t>
              </a:r>
              <a:r>
                <a:rPr b="0" lang="en-US" sz="2800" spc="-1" strike="noStrike">
                  <a:solidFill>
                    <a:srgbClr val="ffffff"/>
                  </a:solidFill>
                  <a:latin typeface="Century Gothic"/>
                </a:rPr>
                <a:t>TERATUR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2800" spc="-1" strike="noStrike">
                  <a:solidFill>
                    <a:srgbClr val="ffffff"/>
                  </a:solidFill>
                  <a:latin typeface="Century Gothic"/>
                </a:rPr>
                <a:t>-PENANGANAN KOMP.KUS</a:t>
              </a:r>
              <a:r>
                <a:rPr b="0" lang="en-US" sz="2800" spc="-1" strike="noStrike">
                  <a:solidFill>
                    <a:srgbClr val="ffffff"/>
                  </a:solidFill>
                  <a:latin typeface="Century Gothic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entury Gothic"/>
                </a:rPr>
                <a:t>  </a:t>
              </a:r>
              <a:r>
                <a:rPr b="0" lang="en-US" sz="2800" spc="-1" strike="noStrike">
                  <a:solidFill>
                    <a:srgbClr val="ffffff"/>
                  </a:solidFill>
                  <a:latin typeface="Century Gothic"/>
                </a:rPr>
                <a:t>TA ( NEURITIS, REAKSI ) ADE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entury Gothic"/>
                </a:rPr>
                <a:t>  </a:t>
              </a:r>
              <a:r>
                <a:rPr b="0" lang="en-US" sz="2800" spc="-1" strike="noStrike">
                  <a:solidFill>
                    <a:srgbClr val="ffffff"/>
                  </a:solidFill>
                  <a:latin typeface="Century Gothic"/>
                </a:rPr>
                <a:t>KUAT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2800" spc="-1" strike="noStrike">
                  <a:solidFill>
                    <a:srgbClr val="ffffff"/>
                  </a:solidFill>
                  <a:latin typeface="Century Gothic"/>
                </a:rPr>
                <a:t>-YBS MENGERTI CARA </a:t>
              </a:r>
              <a:r>
                <a:rPr b="0" lang="en-US" sz="2800" spc="-1" strike="noStrike">
                  <a:solidFill>
                    <a:srgbClr val="ffffff"/>
                  </a:solidFill>
                  <a:latin typeface="Century Gothic"/>
                </a:rPr>
                <a:t>MEN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entury Gothic"/>
                </a:rPr>
                <a:t>  </a:t>
              </a:r>
              <a:r>
                <a:rPr b="0" lang="en-US" sz="2800" spc="-1" strike="noStrike">
                  <a:solidFill>
                    <a:srgbClr val="ffffff"/>
                  </a:solidFill>
                  <a:latin typeface="Century Gothic"/>
                </a:rPr>
                <a:t>CEGAH TIMBULNYA CACA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Box 3"/>
          <p:cNvSpPr/>
          <p:nvPr/>
        </p:nvSpPr>
        <p:spPr>
          <a:xfrm>
            <a:off x="304920" y="12193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IKA TERINFEKSI M.LEP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Box 6"/>
          <p:cNvSpPr/>
          <p:nvPr/>
        </p:nvSpPr>
        <p:spPr>
          <a:xfrm>
            <a:off x="3200400" y="1219320"/>
            <a:ext cx="556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GAN_ ORGAN TUBUH YANG DPT DISERA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Box 9"/>
          <p:cNvSpPr/>
          <p:nvPr/>
        </p:nvSpPr>
        <p:spPr>
          <a:xfrm>
            <a:off x="1905120" y="2514600"/>
            <a:ext cx="6095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-SST, KULIT, SEL.LENDIR MULUT, SAL.NAFAS ATA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MATA, SISTEM RETIKULOENDOTELIAL, TEST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-DITEMUKAN OLEH GERHARD ARMEURD HANS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187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-BERBENTUK BATANG, PANJANG 1- 8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u, 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LEB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0,2 – 0,5  </a:t>
            </a: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TIDAK DAPAT DIBIAKKAN PADA SUATU MED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-ARMADILO (BENUA AMERIK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ight Arrow 6"/>
          <p:cNvSpPr/>
          <p:nvPr/>
        </p:nvSpPr>
        <p:spPr>
          <a:xfrm>
            <a:off x="2666880" y="1219320"/>
            <a:ext cx="609840" cy="484200"/>
          </a:xfrm>
          <a:prstGeom prst="rightArrow">
            <a:avLst>
              <a:gd name="adj1" fmla="val 50000"/>
              <a:gd name="adj2" fmla="val 50064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152280" y="463680"/>
            <a:ext cx="8406000" cy="62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1"/>
          <p:cNvSpPr/>
          <p:nvPr/>
        </p:nvSpPr>
        <p:spPr>
          <a:xfrm flipH="1">
            <a:off x="869400" y="838080"/>
            <a:ext cx="14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Arial"/>
              </a:rPr>
              <a:t>KU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Box 3"/>
          <p:cNvSpPr/>
          <p:nvPr/>
        </p:nvSpPr>
        <p:spPr>
          <a:xfrm>
            <a:off x="2438280" y="838080"/>
            <a:ext cx="6477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Arial"/>
              </a:rPr>
              <a:t>PENYAKIT MENULAR YANG MENIMBULKAN MASALAH YANG SANGAT KOMPLEK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Arial"/>
              </a:rPr>
              <a:t>-PENDERITA ITU SENDIR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Arial"/>
              </a:rPr>
              <a:t>-KELUARG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Arial"/>
              </a:rPr>
              <a:t>-MASYARAKAT LINGKUNG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Arial"/>
              </a:rPr>
              <a:t>-MASALAH MED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id-ID" sz="1800" spc="-1" strike="noStrike">
                <a:solidFill>
                  <a:srgbClr val="ffffff"/>
                </a:solidFill>
                <a:latin typeface="Arial"/>
              </a:rPr>
              <a:t>SOS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id-ID" sz="1800" spc="-1" strike="noStrike">
                <a:solidFill>
                  <a:srgbClr val="ffffff"/>
                </a:solidFill>
                <a:latin typeface="Arial"/>
              </a:rPr>
              <a:t>EKONO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id-ID" sz="1800" spc="-1" strike="noStrike">
                <a:solidFill>
                  <a:srgbClr val="ffffff"/>
                </a:solidFill>
                <a:latin typeface="Arial"/>
              </a:rPr>
              <a:t>BUDAY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id-ID" sz="1800" spc="-1" strike="noStrike">
                <a:solidFill>
                  <a:srgbClr val="ffffff"/>
                </a:solidFill>
                <a:latin typeface="Arial"/>
              </a:rPr>
              <a:t>KEAMANAN &amp; KETAHANAN NAS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219240" y="55440"/>
            <a:ext cx="8418240" cy="59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3" descr=""/>
          <p:cNvPicPr/>
          <p:nvPr/>
        </p:nvPicPr>
        <p:blipFill>
          <a:blip r:embed="rId1"/>
          <a:stretch/>
        </p:blipFill>
        <p:spPr>
          <a:xfrm>
            <a:off x="79200" y="-139680"/>
            <a:ext cx="862668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Diklat</cp:lastModifiedBy>
  <dcterms:modified xsi:type="dcterms:W3CDTF">2012-03-26T16:21:58Z</dcterms:modified>
  <cp:revision>45</cp:revision>
  <dc:subject/>
  <dc:title>SELAYANG PANDANG KUSTA</dc:title>
</cp:coreProperties>
</file>